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6F7D-46D2-45E9-B890-D491F491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BC23-DC03-4079-ABE3-3CC4E49B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8D02-F6F5-4798-A3BC-78611077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5A8F-3DFF-4AE7-BB86-37D4FF92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7CE6-A893-491E-9EC0-A493E91F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4F79-82A1-4BE0-9465-E0B2F1B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BA3C-7D68-49A7-9C51-4041400A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6322-335C-4979-A450-FFDA17F9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69D7-1D39-4498-A4CA-0ABDB8F8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EFD2-79EA-40FF-ADDA-181D732C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22A0-588C-4C90-8EC7-09E95C7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5493-4D62-4DEF-84E8-C7C7922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06C-3DD5-4D46-9094-2674D9A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D0C-D10D-4966-B637-F7B3D9D9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BFEB-0F57-4F17-8C57-64D3D431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6E08-5C66-4968-BC66-12A7EEA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588-0B1F-4533-90A3-93CEAA6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3C91-7C6A-4EC4-AFAE-344D22CC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58607-E273-4B43-8343-3C93E935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0F50-D45B-42B4-A77B-C358CBC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90D5-D6F2-45AC-A176-6190253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EAC4-B7F3-4CB5-94EC-8ED3CBE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F425-9017-4AA4-8611-C036058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3E02-7331-4E95-B4D3-25D0DFA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05C-540E-4CAD-BC1D-D96DB57CAC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27C-659E-4541-BC69-87A77909D1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: Jack Camp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cocina. Es bonita y moder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639040" cy="31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omed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grande y lujo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8:52:13Z</dcterms:created>
  <dc:creator>campionjoh</dc:creator>
  <dc:description/>
  <dc:language>en-US</dc:language>
  <cp:lastModifiedBy>campionjoh</cp:lastModifiedBy>
  <dcterms:modified xsi:type="dcterms:W3CDTF">2011-04-25T16:43:57Z</dcterms:modified>
  <cp:revision>2</cp:revision>
  <dc:subject/>
  <dc:title>La Casa</dc:title>
</cp:coreProperties>
</file>